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F86-7ADC-4BBE-B797-74883A68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8C6-B842-4185-96A8-5ADD8114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830-7C00-4ED3-BE5D-F09B07C1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768-7BFF-4E9E-8290-F2C87144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DC8-DA28-4ED9-B217-152E732B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905-A125-4BBB-A1B8-93250D12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79A-421D-48CA-80B2-ACDC6C73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5EF-32CD-4950-8E30-A0006C1C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182-BFC3-4870-B1C7-414E5E8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7F6-2DFE-48A1-8FA3-D4C6124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972-B827-4443-84B0-0C7FB822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5F0-B415-460A-A771-25B1302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29B2-2895-42DC-8B34-B8D2D07DE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view Phon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sentences and identify the word that has the /f/ sound.  Circle the letters that stand for /f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phone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has a cold and a c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took many photos on our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studied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earned about graphs in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         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505320" y="548640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495680" y="4952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41:18Z</dcterms:created>
  <dc:creator> </dc:creator>
  <dc:description/>
  <dc:language>en-US</dc:language>
  <cp:lastModifiedBy>teacher</cp:lastModifiedBy>
  <dcterms:modified xsi:type="dcterms:W3CDTF">2011-03-05T09:23:32Z</dcterms:modified>
  <cp:revision>2</cp:revision>
  <dc:subject/>
  <dc:title>Review Phonics</dc:title>
</cp:coreProperties>
</file>